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7.png" ContentType="image/png"/>
  <Override PartName="/ppt/media/image1.jpeg" ContentType="image/jpeg"/>
  <Override PartName="/ppt/media/image6.jpeg" ContentType="image/jpeg"/>
  <Override PartName="/ppt/media/carbrake.wav" ContentType="audio/x-wav"/>
  <Override PartName="/ppt/media/image15.png" ContentType="image/png"/>
  <Override PartName="/ppt/media/image14.png" ContentType="image/png"/>
  <Override PartName="/ppt/media/image12.png" ContentType="image/png"/>
  <Override PartName="/ppt/media/image11.png" ContentType="image/png"/>
  <Override PartName="/ppt/media/camera.wav" ContentType="audio/x-wav"/>
  <Override PartName="/ppt/media/image2.wmf" ContentType="image/x-wmf"/>
  <Override PartName="/ppt/media/image3.wmf" ContentType="image/x-wmf"/>
  <Override PartName="/ppt/media/image4.png" ContentType="image/png"/>
  <Override PartName="/ppt/media/laser.wav" ContentType="audio/x-wav"/>
  <Override PartName="/ppt/media/image8.jpeg" ContentType="image/jpeg"/>
  <Override PartName="/ppt/media/image10.jpeg" ContentType="image/jpeg"/>
  <Override PartName="/ppt/media/image13.wmf" ContentType="image/x-wmf"/>
  <Override PartName="/ppt/media/image5.png" ContentType="image/png"/>
  <Override PartName="/ppt/media/whoosh.wav" ContentType="audio/x-wav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9DD1-CD9D-403F-89E7-F7D5F24DDC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73B5-A0A5-4F16-9268-B0617C33CC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03EA-AA69-4477-B635-FF9921F0CEF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22E3-B6D1-4B0D-8C79-37A7486E527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24CE-0C00-4D5D-94DA-6D4F09533CBD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0ECD-A8F8-4E74-A9DC-2C93C5A3569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AAED-507E-43BA-9C4F-65282F901D2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A94F-110E-478D-89D0-59AEC2A69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F35C-CA21-4074-A02A-D422C680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EACC-5D23-4A4E-BA6E-F106EDA47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888B-BB5C-4AE5-BA19-0C59BD833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E4499-351C-4C8F-8D8D-806EF9100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54AA-B564-4E14-A1FF-22F09514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58CE8-49E0-4741-B7F7-06A47784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073A-6D9D-4215-B17E-38FEA32F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8A65-74CD-4CD7-B3F5-F09C3C9F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A42C-6846-45B6-B682-800D4226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F0A53-EE20-4641-9775-CD901E7E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82BC-9FC4-468C-A6C7-C3958883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D2179-8EA0-4E2D-97E1-AF46E731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46E8-74EB-44F2-B0B0-ED5CCC57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B9153-C99F-4527-8297-1EA6274E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06DB-9034-420C-BEE4-393B0FF59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CBD8-308F-49ED-AE30-80A71A9DA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A2279-7D68-4884-814E-5116B9A81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B0FCD-C5CF-43E7-B1FB-8C614AA1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3EAA0-1253-4026-B3AE-9D77A07F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F0659-904A-40A1-B6E5-17904EC8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93607-F689-452E-861A-EB4B7014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5700-EFC7-49B2-BCDB-EA3BCA21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71221-8AA5-4921-AC8A-6D3B411B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2EA30-4B13-4579-B3D8-C707CFB1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687C4-81D4-4312-8B77-D18BAF22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A8B24-AA5A-48B9-B3B4-41EC24AD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98615-16A1-4CF4-9383-3724FCCA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50120-8073-4251-ABDB-2C8204BFE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E335B-2146-4858-80F3-2C36CF60D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35A80-FC4B-4053-B0D4-4D4208560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F3AC2-FC8F-4109-A4B8-165D4205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19AD5-B9E3-4C20-822F-D2DCAD2F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5BC9-4D66-4F7B-B267-C38F3A67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433B4-18CB-4F95-805C-99814E05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D647D-EE1F-4805-A519-6231D0D6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62AB3-CFC0-4DD4-A7F4-A3D967FF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8A702-8D40-456F-81F3-BA691CC6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CE997-8197-469D-9043-79E146B3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61E75-48A3-4E54-8BE7-71A2AC2F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D739C-02D4-4B6A-8387-6ECDB000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021B4-5FCE-4ECC-9302-EF223552D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9CA83-5F95-4055-9015-28B74A5A4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2D12-6C23-4805-B995-A6A854BD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B333-39B9-4EAC-A673-76E463F4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A6B4-D712-4710-8035-B3749E89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7925-F112-49EB-8895-D2D45E85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C26A-65F7-44E0-963D-2661E5D4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6158-1479-42D5-B6EB-AA795FE9BDD7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EA1F-F3E0-48B4-9F35-DDC37F1438FD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B7DE-99A2-47F7-92CC-AC844ED4DAF8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3B45-5617-45E4-AC2A-5BCF9BC73F47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youtube.com/watch?v=S0Q5AUJT_zk&amp;feature=related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0082"/>
            </a:gs>
            <a:gs pos="100000">
              <a:srgbClr val="69676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howcard Gothic"/>
              </a:rPr>
              <a:t>Prehistory/EARLY CIVILIZA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0" y="685800"/>
            <a:ext cx="9144000" cy="23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NewCenturySchlbk"/>
              </a:rPr>
              <a:t>PREHISTO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NewCenturySchlbk"/>
              </a:rPr>
              <a:t>What is i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NewCenturySchlbk"/>
              </a:rPr>
              <a:t>Prehistory is the period of time before WRITTEN record. (about 5,000 years ag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0" y="3611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empus Sans ITC"/>
              </a:rPr>
              <a:t>How do we know PREHISTOR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icture 5"/>
          <p:cNvSpPr/>
          <p:nvPr/>
        </p:nvSpPr>
        <p:spPr>
          <a:xfrm>
            <a:off x="19080" y="3200400"/>
            <a:ext cx="1352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2362320" y="4191120"/>
            <a:ext cx="63244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Castel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stellar"/>
              </a:rPr>
              <a:t>Arche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Castel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stellar"/>
              </a:rPr>
              <a:t>Radiocarbon Da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Castel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stellar"/>
              </a:rPr>
              <a:t>Oral Trad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0082"/>
            </a:gs>
            <a:gs pos="100000">
              <a:srgbClr val="69676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2"/>
          <p:cNvSpPr txBox="1"/>
          <p:nvPr/>
        </p:nvSpPr>
        <p:spPr>
          <a:xfrm>
            <a:off x="1623960" y="38160"/>
            <a:ext cx="5896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9c2d1"/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Early River Civilization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c9c2d1"/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0" y="62532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 Ref"/>
              </a:rPr>
              <a:t>Because of agriculture</a:t>
            </a:r>
            <a:r>
              <a:rPr b="1" lang="ja-JP" sz="3200" spc="-1" strike="noStrike">
                <a:solidFill>
                  <a:srgbClr val="ffffff"/>
                </a:solidFill>
                <a:latin typeface="Verdana Ref"/>
              </a:rPr>
              <a:t>’</a:t>
            </a:r>
            <a:r>
              <a:rPr b="1" lang="en-US" sz="3200" spc="-1" strike="noStrike">
                <a:solidFill>
                  <a:srgbClr val="ffffff"/>
                </a:solidFill>
                <a:latin typeface="Verdana Ref"/>
              </a:rPr>
              <a:t>s dependence on fertile soil and an abundance of water, most early civilizations developed near RIV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0" y="2286000"/>
            <a:ext cx="914400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Rockwell Condensed"/>
              </a:rPr>
              <a:t>Mesopotamia</a:t>
            </a:r>
            <a:r>
              <a:rPr b="0" lang="en-US" sz="2800" spc="-1" strike="noStrike">
                <a:solidFill>
                  <a:srgbClr val="ffffff"/>
                </a:solidFill>
                <a:latin typeface="Rockwell Condensed"/>
              </a:rPr>
              <a:t>:  Known as </a:t>
            </a:r>
            <a:r>
              <a:rPr b="0" lang="ja-JP" sz="2800" spc="-1" strike="noStrike">
                <a:solidFill>
                  <a:srgbClr val="ffffff"/>
                </a:solidFill>
                <a:latin typeface="Rockwell Condense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Rockwell Condensed"/>
              </a:rPr>
              <a:t>the land between two rivers</a:t>
            </a:r>
            <a:r>
              <a:rPr b="0" lang="ja-JP" sz="2800" spc="-1" strike="noStrike">
                <a:solidFill>
                  <a:srgbClr val="ffffff"/>
                </a:solidFill>
                <a:latin typeface="Rockwell Condensed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Rockwell Condensed"/>
              </a:rPr>
              <a:t>.  Several civilizations developed here between the Tigris and Euphra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Rockwell Condensed"/>
              </a:rPr>
              <a:t>Egypt</a:t>
            </a:r>
            <a:r>
              <a:rPr b="0" lang="en-US" sz="2800" spc="-1" strike="noStrike">
                <a:solidFill>
                  <a:srgbClr val="ffffff"/>
                </a:solidFill>
                <a:latin typeface="Rockwell Condensed"/>
              </a:rPr>
              <a:t>:  Civilization that grew along the banks of the Nile Riv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Rockwell Condensed"/>
              </a:rPr>
              <a:t>Indus and Ganges River Valleys</a:t>
            </a:r>
            <a:r>
              <a:rPr b="0" lang="en-US" sz="2800" spc="-1" strike="noStrike">
                <a:solidFill>
                  <a:srgbClr val="ffffff"/>
                </a:solidFill>
                <a:latin typeface="Rockwell Condensed"/>
              </a:rPr>
              <a:t>:  Isolated civilizations thrived for many centuries. (Indus Riv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Rockwell Condensed"/>
              </a:rPr>
              <a:t>Huang and Chang Jiang River Valleys</a:t>
            </a:r>
            <a:r>
              <a:rPr b="0" lang="en-US" sz="2800" spc="-1" strike="noStrike">
                <a:solidFill>
                  <a:srgbClr val="ffffff"/>
                </a:solidFill>
                <a:latin typeface="Rockwell Condensed"/>
              </a:rPr>
              <a:t>:  Earliest known cities develop here. (Yellow Riv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0082"/>
            </a:gs>
            <a:gs pos="100000">
              <a:srgbClr val="69676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2"/>
          <p:cNvSpPr txBox="1"/>
          <p:nvPr/>
        </p:nvSpPr>
        <p:spPr>
          <a:xfrm>
            <a:off x="1362240" y="114480"/>
            <a:ext cx="64195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Contributions of Early Civilizations</a:t>
            </a:r>
            <a:endParaRPr b="0" lang="en-US" sz="2400" spc="1" strike="noStrike">
              <a:ln w="9360">
                <a:solidFill>
                  <a:srgbClr val="ff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0" y="762120"/>
            <a:ext cx="929628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9cb084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cb084"/>
                </a:solidFill>
                <a:uFillTx/>
                <a:latin typeface="Impact"/>
              </a:rPr>
              <a:t>Mesopotamia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:  Legal code (Hammurabi</a:t>
            </a:r>
            <a:r>
              <a:rPr b="0" lang="ja-JP" sz="3200" spc="-1" strike="noStrike">
                <a:solidFill>
                  <a:srgbClr val="ffffff"/>
                </a:solidFill>
                <a:latin typeface="Impact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 Code), math skills, and first form of writing (Cunei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9cb084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cb084"/>
                </a:solidFill>
                <a:uFillTx/>
                <a:latin typeface="Impact"/>
              </a:rPr>
              <a:t>Egypt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:  Calendar, use of paper (papyrus), and hieroglyph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9cb084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cb084"/>
                </a:solidFill>
                <a:uFillTx/>
                <a:latin typeface="Impact"/>
              </a:rPr>
              <a:t>Indus Civilizations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:  Highly organized cities and waste dispos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9cb084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cb084"/>
                </a:solidFill>
                <a:uFillTx/>
                <a:latin typeface="Impact"/>
              </a:rPr>
              <a:t>Chinese Civilizations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:  Silk, rice farming, and bronzewor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0082"/>
            </a:gs>
            <a:gs pos="100000">
              <a:srgbClr val="69676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BD05183_"/>
          <p:cNvPicPr/>
          <p:nvPr/>
        </p:nvPicPr>
        <p:blipFill>
          <a:blip r:embed="rId1"/>
          <a:stretch/>
        </p:blipFill>
        <p:spPr>
          <a:xfrm>
            <a:off x="76320" y="4660920"/>
            <a:ext cx="3200400" cy="21495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FD01072_"/>
          <p:cNvPicPr/>
          <p:nvPr/>
        </p:nvPicPr>
        <p:blipFill>
          <a:blip r:embed="rId2"/>
          <a:stretch/>
        </p:blipFill>
        <p:spPr>
          <a:xfrm>
            <a:off x="6705720" y="990720"/>
            <a:ext cx="2286000" cy="213336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0" y="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howcard Gothic"/>
              </a:rPr>
              <a:t>PREHISTORY:  What was it lik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1371600" y="762120"/>
            <a:ext cx="6400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Stenci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tencil"/>
              </a:rPr>
              <a:t>Hunter/Gather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Stenci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tencil"/>
              </a:rPr>
              <a:t>Nomadic peo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0" y="1905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howcard Gothic"/>
              </a:rPr>
              <a:t>Why did it chang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1371600" y="2801880"/>
            <a:ext cx="7696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Stenci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tencil"/>
              </a:rPr>
              <a:t>Farming Develo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Stenci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tencil"/>
              </a:rPr>
              <a:t>Animals are domestic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3352680" y="3975120"/>
            <a:ext cx="5791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Ultra Bold Condensed"/>
              </a:rPr>
              <a:t>Agriculture</a:t>
            </a:r>
            <a:r>
              <a:rPr b="0" lang="en-US" sz="2800" spc="-1" strike="noStrike">
                <a:solidFill>
                  <a:srgbClr val="ffffff"/>
                </a:solidFill>
                <a:latin typeface="Gill Sans Ultra Bold Condensed"/>
              </a:rPr>
              <a:t> is considered to be one of the GREATEST inventions of all time by many historians because it fostered the development of </a:t>
            </a:r>
            <a:r>
              <a:rPr b="0" lang="en-US" sz="2800" spc="-1" strike="noStrike">
                <a:solidFill>
                  <a:srgbClr val="ff3300"/>
                </a:solidFill>
                <a:latin typeface="Gill Sans Ultra Bold Condensed"/>
              </a:rPr>
              <a:t>CIVILIZATIONS</a:t>
            </a:r>
            <a:r>
              <a:rPr b="0" lang="en-US" sz="2800" spc="-1" strike="noStrike">
                <a:solidFill>
                  <a:srgbClr val="ffffff"/>
                </a:solidFill>
                <a:latin typeface="Gill Sans Ultra Bold Condensed"/>
              </a:rPr>
              <a:t>.  These civilizations depended on agricult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4,000,000 B.C. First Hominids appear in Afric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1,600,000 B.C. Homo Erectus appea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200,000 B.C. Neanderthals appea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40,000 B.C. Cro-Magnons emerge (identical to modern humans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8000 B.C. Neolithic Age begins – first agriculture takes pla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3000 B.C. Bronze Age well established in Mesopotami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Rectangle 2" descr=""/>
          <p:cNvPicPr/>
          <p:nvPr/>
        </p:nvPicPr>
        <p:blipFill>
          <a:blip r:embed="rId1"/>
          <a:stretch/>
        </p:blipFill>
        <p:spPr>
          <a:xfrm>
            <a:off x="682560" y="225360"/>
            <a:ext cx="7785000" cy="12254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685440" y="190476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Paleolithic (</a:t>
            </a:r>
            <a:r>
              <a:rPr b="0" lang="ja-JP" sz="24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ld Stone</a:t>
            </a:r>
            <a:r>
              <a:rPr b="0" lang="ja-JP" sz="2400" spc="-1" strike="noStrike">
                <a:solidFill>
                  <a:srgbClr val="ffffff"/>
                </a:solidFill>
                <a:latin typeface="Book Antiqua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) Age, c. 40,000-c. 10,000 B.C.E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unter-gatherer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rade (e.g. seashells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echnology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remaking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bone and stone weapons and jewelry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rt and religion: Cave paintings and female figurines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7" name="Picture 6" descr="A006"/>
          <p:cNvPicPr/>
          <p:nvPr/>
        </p:nvPicPr>
        <p:blipFill>
          <a:blip r:embed="rId2"/>
          <a:stretch/>
        </p:blipFill>
        <p:spPr>
          <a:xfrm>
            <a:off x="4648320" y="2492280"/>
            <a:ext cx="380988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Rectangle 2" descr=""/>
          <p:cNvPicPr/>
          <p:nvPr/>
        </p:nvPicPr>
        <p:blipFill>
          <a:blip r:embed="rId1"/>
          <a:stretch/>
        </p:blipFill>
        <p:spPr>
          <a:xfrm>
            <a:off x="682560" y="201600"/>
            <a:ext cx="7778880" cy="8161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800240" y="1066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70880" indent="-353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Neolithic (</a:t>
            </a:r>
            <a:r>
              <a:rPr b="0" lang="ja-JP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ew Stone</a:t>
            </a:r>
            <a:r>
              <a:rPr b="0" lang="ja-JP" sz="2800" spc="-1" strike="noStrike">
                <a:solidFill>
                  <a:srgbClr val="ffffff"/>
                </a:solidFill>
                <a:latin typeface="Book Antiqua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 Revolution, c. 10,000-c. 4000 B.C.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6640" indent="-2430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ransition from a nomadic existence as hunter-gatherers to more settled lifestyl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974880" indent="-196560">
              <a:spcBef>
                <a:spcPts val="499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nvention of agricultur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974880" indent="-196560">
              <a:spcBef>
                <a:spcPts val="499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Domestication of animal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46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0" name="Picture 6" descr="map 01-01"/>
          <p:cNvPicPr/>
          <p:nvPr/>
        </p:nvPicPr>
        <p:blipFill>
          <a:blip r:embed="rId2"/>
          <a:stretch/>
        </p:blipFill>
        <p:spPr>
          <a:xfrm>
            <a:off x="0" y="2362320"/>
            <a:ext cx="474336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Rectangle 2" descr=""/>
          <p:cNvPicPr/>
          <p:nvPr/>
        </p:nvPicPr>
        <p:blipFill>
          <a:blip r:embed="rId1"/>
          <a:stretch/>
        </p:blipFill>
        <p:spPr>
          <a:xfrm>
            <a:off x="682560" y="768240"/>
            <a:ext cx="7778880" cy="8226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761760" y="1600200"/>
            <a:ext cx="3809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738000" indent="-240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ncreasingly gender-based division of labor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38000" indent="-240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pecialized crafts (metallurgy and weaving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38000" indent="-240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Emergence of social hierarchy: patriarchal organization of state and society would become the norm in the West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38000" indent="-240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nvention of irrigation (c. 6500 B.C.E.) facilitated establishment of settled agricultural communities in the Fertile Crescen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3" name="Picture 9" descr="A088"/>
          <p:cNvPicPr/>
          <p:nvPr/>
        </p:nvPicPr>
        <p:blipFill>
          <a:blip r:embed="rId2"/>
          <a:stretch/>
        </p:blipFill>
        <p:spPr>
          <a:xfrm>
            <a:off x="4648320" y="2301840"/>
            <a:ext cx="380988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Title 1" descr=""/>
          <p:cNvPicPr/>
          <p:nvPr/>
        </p:nvPicPr>
        <p:blipFill>
          <a:blip r:embed="rId1"/>
          <a:stretch/>
        </p:blipFill>
        <p:spPr>
          <a:xfrm>
            <a:off x="457200" y="530280"/>
            <a:ext cx="8229600" cy="210348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81952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ncient river civilizations developed in four key areas: Mesopotamia, Egypt, China and India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se civilizations evolved as a result of the development of agricultural practices which relied upon a steady supply of fresh water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The Trigger Effect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atch the clip and th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complete the “Characteristics of Civilization” worksheet – explaining how the discovery of agriculture led to the development of: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Advanced skil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Cities &amp; governmen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Division of labou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Writ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Calendar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0082"/>
            </a:gs>
            <a:gs pos="100000">
              <a:srgbClr val="69676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2"/>
          <p:cNvSpPr txBox="1"/>
          <p:nvPr/>
        </p:nvSpPr>
        <p:spPr>
          <a:xfrm>
            <a:off x="1623960" y="38160"/>
            <a:ext cx="5896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c9c2d1"/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Early River Civilizations</a:t>
            </a:r>
            <a:endParaRPr b="0" lang="en-US" sz="2400" spc="1" strike="noStrike">
              <a:ln w="12600">
                <a:solidFill>
                  <a:srgbClr val="ff3300"/>
                </a:solidFill>
                <a:miter/>
              </a:ln>
              <a:solidFill>
                <a:srgbClr val="c9c2d1"/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0" y="609480"/>
            <a:ext cx="9144000" cy="63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As civilizations began to develop, the need arose for organization, and they began to develop key characteristics and cities were buil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oper Black"/>
              </a:rPr>
              <a:t>C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oper Black"/>
              </a:rPr>
              <a:t>Government &amp; Law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oper Black"/>
              </a:rPr>
              <a:t>Relig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oper Black"/>
              </a:rPr>
              <a:t>Job Special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oper Black"/>
              </a:rPr>
              <a:t>Social 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oper Black"/>
              </a:rPr>
              <a:t>Wri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oper Black"/>
              </a:rPr>
              <a:t>Ar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oper Black"/>
              </a:rPr>
              <a:t>Public 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4" descr="BL00662_"/>
          <p:cNvPicPr/>
          <p:nvPr/>
        </p:nvPicPr>
        <p:blipFill>
          <a:blip r:embed="rId1"/>
          <a:stretch/>
        </p:blipFill>
        <p:spPr>
          <a:xfrm>
            <a:off x="4952880" y="2419200"/>
            <a:ext cx="419112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8:03:24Z</dcterms:created>
  <dc:creator>wths</dc:creator>
  <dc:description/>
  <dc:language>en-US</dc:language>
  <cp:lastModifiedBy>Microsoft Office User</cp:lastModifiedBy>
  <dcterms:modified xsi:type="dcterms:W3CDTF">2011-09-12T16:07:35Z</dcterms:modified>
  <cp:revision>38</cp:revision>
  <dc:subject/>
  <dc:title>PowerPoint Presentation</dc:title>
</cp:coreProperties>
</file>